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75830-CAB1-459E-AF50-1CD956D96D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67F-ACFB-4149-B617-176A787C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0CC-CD8C-4C2F-B715-08F84687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424-0D8E-4D98-AB8A-336DCBF1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D76-5623-4CF0-8DA1-946A68E1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A82-4065-4515-B471-BB68F838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0FD-7EDD-4EC7-A201-78A48DFE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096-4B6E-4A34-814A-07309B6D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D9E-F3A8-4B23-93D5-DE5B4743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997-8E73-497F-8A87-FE7EE471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C45-4548-4F42-9A6C-F227FF47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CF8-2C9A-44A8-BD0A-4C4CAA65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542-422A-4A55-9CAC-CE39AF62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292E6-6BBB-4853-9D88-17C20304E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11800" y="900000"/>
            <a:ext cx="67993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I Know Tha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My Redeemer L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14840" y="269892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4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71200" y="1619280"/>
            <a:ext cx="835848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that my Redeemer lives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ever prays (and ever prays)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eternal life He g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sin and sorrow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eternal life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6880" y="1619280"/>
            <a:ext cx="823212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wills (He wills) that I should holy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word, in tho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n word, in tho’t) and d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n I (then I) His holy face may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n from this earth-life fr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eternal life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2800" y="1476360"/>
            <a:ext cx="863748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that unto sinfu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 saving grace (His saving grace) is n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that He will come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 take me ho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eternal life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47080" y="1547640"/>
            <a:ext cx="8309880" cy="57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 (I know) that over yonder st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place prepa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a place prepared)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home (a home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house not made with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st wonderfu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eternal life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know, I know that 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eila Jones</cp:lastModifiedBy>
  <dcterms:modified xsi:type="dcterms:W3CDTF">2006-06-12T19:10:12Z</dcterms:modified>
  <cp:revision>2</cp:revision>
  <dc:subject/>
  <dc:title>Slide 1</dc:title>
</cp:coreProperties>
</file>